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73C-FEED-46F3-8655-495FD85D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22C-3518-4DFE-BA6A-A27C842D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068-1B27-4711-B4F1-A104E68D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72A-F37A-4485-9B21-53BCDC2C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CC9-BEE5-4E64-81E6-CE5C004F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86A-75FC-4FF3-ABE8-AF1694F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FC6-DE07-4649-A52B-481B7FD2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501-BA81-4945-AE90-5E36DE87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39E-0C7A-41BE-926A-C568BA8B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156-9F71-4331-9983-3D2E690B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716-E627-426C-B844-596B95CA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A50-5BEA-44AD-A6BA-7E23642C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B77C-182F-4DEC-87F9-6B2E7DE710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Escribir un script  que permita determinar si un número entero 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par o imp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cribir un script  que permita definir si un núme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mayor que un númer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 El programa debe permitir ingresar los números a y b, e imprimir el resultad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mayor que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menor que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es igual a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Escribir un script  que de como resultado el menor de 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meros a, b,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Realizar un script que de cómo resultado la suma de los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s comprendidos entre dos números a y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ribir un programa que dibuje un triángulo de n filas ,empleand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ácter asterisc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jemplo, para n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457200" y="731880"/>
            <a:ext cx="81471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Implementar programas que permitan evaluar la suma total de los n primeros términos de las siguientes s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La suma de los n primeros términos de la s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 = 1 + 3 + 5 + 7 +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99cc00"/>
                </a:solidFill>
                <a:latin typeface="Times New Roman"/>
              </a:rPr>
              <a:t>La suma de los n primeros términos de la s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S = 1-2+3-5+8-13+21-34+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2"/>
              <p:cNvSpPr txBox="1"/>
              <p:nvPr/>
            </p:nvSpPr>
            <p:spPr>
              <a:xfrm>
                <a:off x="1371600" y="3505320"/>
                <a:ext cx="3297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1 Rectángulo"/>
          <p:cNvSpPr/>
          <p:nvPr/>
        </p:nvSpPr>
        <p:spPr>
          <a:xfrm>
            <a:off x="1081080" y="4267080"/>
            <a:ext cx="44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d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99cc00"/>
                </a:solidFill>
                <a:latin typeface="Times New Roman"/>
              </a:rPr>
              <a:t>Evaluar los n primeros térmicos de la se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2 Objeto"/>
              <p:cNvSpPr txBox="1"/>
              <p:nvPr/>
            </p:nvSpPr>
            <p:spPr>
              <a:xfrm>
                <a:off x="1676520" y="4876920"/>
                <a:ext cx="3011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Carvajal</dc:creator>
  <dc:description/>
  <dc:language>en-US</dc:language>
  <cp:lastModifiedBy>BCarvajal</cp:lastModifiedBy>
  <dcterms:modified xsi:type="dcterms:W3CDTF">2014-09-10T12:21:12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