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309-4D23-4238-A84E-42C79FA8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589F-B5A7-473F-A1D8-B293A6D4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8914-E965-4137-867F-E3C1D255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31D-E0DD-4F05-9D26-BB7DF8A4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D8B-4FC6-406E-A140-C15DE12F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15E-E78D-4EF3-A5C4-D5693453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5B0-1CA7-4767-823B-E461EF7A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39C-8400-44F6-A0F8-74904E54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6CE-4244-481E-B70E-FADE00BD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C66-4101-40D0-970B-40C40649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AAA-BB5D-429E-A97B-74C1EFC5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F2A-14E7-4D17-A994-51C36B51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E70D-9290-4AE9-8673-DFA0523F1D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Escribir un script  que permita determinar si un número entero 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par o imp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cribir un script  que permita definir si un númer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mayor que un númer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 El programa debe permitir ingresar los números a y b, e imprimir el resultad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es mayor que 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es menor que 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es igual a 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Escribir un script  que de como resultado el menor de 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úmeros a, b, 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Realizar un script que de cómo resultado la suma de los nú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es comprendidos entre dos números a y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ribir un programa que dibuje un triángulo de n filas ,empleando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ácter asterisc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jemplo, para n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457200" y="731880"/>
            <a:ext cx="81471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Implementar programas que permitan evaluar la suma total de los n primeros términos de las siguientes se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La suma de los n primeros términos de la se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 = 1 + 3 + 5 + 7 +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99cc00"/>
                </a:solidFill>
                <a:latin typeface="Times New Roman"/>
              </a:rPr>
              <a:t>La suma de los n primeros términos de la se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S = 1-2+3-5+8-13+21-34+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12"/>
              <p:cNvSpPr txBox="1"/>
              <p:nvPr/>
            </p:nvSpPr>
            <p:spPr>
              <a:xfrm>
                <a:off x="1371600" y="3505320"/>
                <a:ext cx="32972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1 Rectángulo"/>
          <p:cNvSpPr/>
          <p:nvPr/>
        </p:nvSpPr>
        <p:spPr>
          <a:xfrm>
            <a:off x="1081080" y="4267080"/>
            <a:ext cx="44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imes New Roman"/>
              </a:rPr>
              <a:t>d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99cc00"/>
                </a:solidFill>
                <a:latin typeface="Times New Roman"/>
              </a:rPr>
              <a:t>Evaluar los n primeros térmicos de la ser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2 Objeto"/>
              <p:cNvSpPr txBox="1"/>
              <p:nvPr/>
            </p:nvSpPr>
            <p:spPr>
              <a:xfrm>
                <a:off x="1676520" y="4876920"/>
                <a:ext cx="30114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!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Carvajal</dc:creator>
  <dc:description/>
  <dc:language>en-US</dc:language>
  <cp:lastModifiedBy>BCarvajal</cp:lastModifiedBy>
  <dcterms:modified xsi:type="dcterms:W3CDTF">2014-09-10T12:21:12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