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D27-6F70-4541-8ED2-FB02B907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0BF-84FD-4C21-AB27-7CEE7E82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9A8-C828-4FA6-BA45-26F0CD71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E1B-0036-4340-B746-34E620F2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5D3-E924-4FDC-AE8C-FF8D529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240-1B78-4C85-963F-CCEC8032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EB7-4E65-4CED-9D69-9C112D09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493-94D7-48C8-B5FD-1952FA84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948-49FE-4833-A433-8BFF2DFA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662-73B4-4031-8095-1FF04F52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5CA-3379-4BB0-AE5B-C6190A3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BC8-7FF0-4CCF-8BC9-8713E2B9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2385-2542-497F-BB40-CB7E49BF1B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Escribir un script  que permita determinar si un número entero 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par o imp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cribir un script  que permita definir si un núme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mayor que un núme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 El programa debe permitir ingresar los números a y b, e imprimir el resultad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mayor que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menor que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igual a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Escribir un script  que de como resultado el menor de 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meros a, b,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Realizar un script que de cómo resultado la suma de los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s comprendidos entre dos números a y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ribir un programa que dibuje un triángulo de n filas ,empleand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ácter asterisc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jemplo, para n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457200" y="731880"/>
            <a:ext cx="81471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Implementar programas que permitan evaluar la suma total de los n primeros términos de las siguientes s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La suma de los n primeros términos de la s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 = 1 + 3 + 5 + 7 +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99cc00"/>
                </a:solidFill>
                <a:latin typeface="Times New Roman"/>
              </a:rPr>
              <a:t>La suma de los n primeros términos de la s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S = 1-2+3-5+8-13+21-34+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2"/>
              <p:cNvSpPr txBox="1"/>
              <p:nvPr/>
            </p:nvSpPr>
            <p:spPr>
              <a:xfrm>
                <a:off x="1371600" y="3505320"/>
                <a:ext cx="3297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1 Rectángulo"/>
          <p:cNvSpPr/>
          <p:nvPr/>
        </p:nvSpPr>
        <p:spPr>
          <a:xfrm>
            <a:off x="1081080" y="4267080"/>
            <a:ext cx="44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d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99cc00"/>
                </a:solidFill>
                <a:latin typeface="Times New Roman"/>
              </a:rPr>
              <a:t>Evaluar los n primeros térmicos de la se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2 Objeto"/>
              <p:cNvSpPr txBox="1"/>
              <p:nvPr/>
            </p:nvSpPr>
            <p:spPr>
              <a:xfrm>
                <a:off x="1676520" y="4876920"/>
                <a:ext cx="3011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Carvajal</dc:creator>
  <dc:description/>
  <dc:language>en-US</dc:language>
  <cp:lastModifiedBy>BCarvajal</cp:lastModifiedBy>
  <dcterms:modified xsi:type="dcterms:W3CDTF">2014-09-10T12:21:12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