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5EA-BD7A-47A0-B5C0-4915F71A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CB9-BDA3-4A0A-A711-BC3935AF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602-42AC-40ED-9AE8-EB727138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134-61FB-45E2-ADDF-8ECC6AF0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9B7-C9C0-4004-BFF7-93754438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098-6F85-4D78-BD6F-A454AA0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A06-0D5F-4B2D-AC4C-2EFB63F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85D-4172-471E-93F7-D3EFC81F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CCB-F05A-4F37-8E80-5E14B2A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ECF-A512-4A17-9F8A-16E405A4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154-3895-489D-9D48-D597829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774-10C2-4327-9FF7-E5B6BEA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380F-AE90-4D24-AFF4-919ADC37CC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permita determinar si un número entero 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par o imp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cribir un script  que permita definir si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mayor que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 El programa debe permitir ingresar los números a y b, e imprimir el resultad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ay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en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igual a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de como resultado el menor de 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a, b,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alizar un script que de cómo resultado la suma de los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s comprendidos entre dos números a y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ribir un programa que dibuje un triángulo de n filas ,empleand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ácter asteris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, para n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57200" y="731880"/>
            <a:ext cx="8147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Implementar programas que permitan evaluar la suma total de los n primeros términos de las siguientes s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 = 1 + 3 + 5 + 7 +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99cc00"/>
                </a:solidFill>
                <a:latin typeface="Times New Roman"/>
              </a:rPr>
              <a:t>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S = 1-2+3-5+8-13+21-34+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2"/>
              <p:cNvSpPr txBox="1"/>
              <p:nvPr/>
            </p:nvSpPr>
            <p:spPr>
              <a:xfrm>
                <a:off x="1371600" y="3505320"/>
                <a:ext cx="3297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1 Rectángulo"/>
          <p:cNvSpPr/>
          <p:nvPr/>
        </p:nvSpPr>
        <p:spPr>
          <a:xfrm>
            <a:off x="1081080" y="426708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99cc00"/>
                </a:solidFill>
                <a:latin typeface="Times New Roman"/>
              </a:rPr>
              <a:t>Evaluar los n primeros térmicos de la se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2 Objeto"/>
              <p:cNvSpPr txBox="1"/>
              <p:nvPr/>
            </p:nvSpPr>
            <p:spPr>
              <a:xfrm>
                <a:off x="1676520" y="4876920"/>
                <a:ext cx="301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Carvajal</dc:creator>
  <dc:description/>
  <dc:language>en-US</dc:language>
  <cp:lastModifiedBy>BCarvajal</cp:lastModifiedBy>
  <dcterms:modified xsi:type="dcterms:W3CDTF">2014-09-10T12:21:12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